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1D8-791F-45E2-A178-94C8B0A5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E3F-D597-41EB-8677-899704E0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E2F-6967-4A86-81DB-CF371FAB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BB7-674D-476A-ACF9-A5904B6D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DC04-1B73-43F3-B5D1-55319FB0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E78A-AAC7-4FA8-8C7C-475E4A9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9C3D-9A97-4924-A4D6-217CF03C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B952-27FB-41B7-AC7D-0E93E0A1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49B6-20CE-4EE0-BF01-2C4D674E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4E42-B27D-46A5-8D87-E9F3D3BD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B8D8-BDBB-466C-B5F0-93DBE84A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EFE-4D4C-4D5B-B4B3-460BA73B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3772-E47E-4B29-AD4A-5D920722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EFC1-94AE-491F-9BD2-FD0C579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6E8B-8DFA-469C-9718-69B2E6EE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01F0-3DD6-4883-AD1C-F58590B3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FE91-B9BD-4AB5-97D3-AA4E2741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98F-061D-40AD-96F1-85F73B1A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7AA-8A41-460F-B8C8-AF5D3174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AAF-D04B-4F53-9D96-29A36ED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E70-FEC1-46A5-9F92-464D53E8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B1F-4DB7-4AAD-B65E-FF47AA3F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18C-575C-46F6-B28D-EF6C70D8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CAD-D507-4A0B-8227-4D1358CA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A58C-888C-4BB6-A301-FB3C3D53E39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E881-67C7-4143-8F42-C518B630850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s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ошедшее продолженное врем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на фоне другого действия в прошлом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, when dad came 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, когда вошел пап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в течение конкретного периода в прошлом (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at 6 o’clock yesterday, yesterday in the morning)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 at 7 o’clock yesterda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чера в 7 час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35280" y="2276280"/>
            <a:ext cx="56894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33cc"/>
                </a:solidFill>
                <a:latin typeface="Arial"/>
              </a:rPr>
              <a:t>Was\were</a:t>
            </a:r>
            <a:r>
              <a:rPr b="0" lang="en-US" sz="5600" spc="-1" strike="noStrike">
                <a:solidFill>
                  <a:srgbClr val="292929"/>
                </a:solidFill>
                <a:latin typeface="Arial"/>
              </a:rPr>
              <a:t> + </a:t>
            </a:r>
            <a:r>
              <a:rPr b="0" lang="en-US" sz="56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600" spc="-1" strike="noStrike" baseline="-25000">
                <a:solidFill>
                  <a:srgbClr val="ff9900"/>
                </a:solidFill>
                <a:latin typeface="Arial"/>
              </a:rPr>
              <a:t>ing</a:t>
            </a:r>
            <a:endParaRPr b="0" lang="en-US" sz="5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78936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question, when the teacher was asked for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15772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USA, when his sister got married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и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Общий вопрос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3141720"/>
            <a:ext cx="61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 his homework, when the phone rang up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50028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рица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3141720"/>
            <a:ext cx="237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is homework, when the phone rang up.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</cp:lastModifiedBy>
  <dcterms:modified xsi:type="dcterms:W3CDTF">2007-10-30T09:08:40Z</dcterms:modified>
  <cp:revision>26</cp:revision>
  <dc:subject/>
  <dc:title>The Present Perfect Tense</dc:title>
</cp:coreProperties>
</file>